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6964B-8575-4302-9731-AC7A10D35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69138-AACF-4526-B294-B3EE78C0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B3C05-9564-4221-9923-31F5BE43C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900D6-9176-40EB-813E-E1F977903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63098-A8E5-4B10-A106-D24C6AF3C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4729-A57D-4BA1-A293-6AD6D1B8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2DF9-E81A-4E8E-85A3-F9673506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9CB3-F90F-455E-8CFA-747D675D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70FA-D660-42BA-8F9E-C08734CF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0923-F094-44FA-802B-BC694747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D9F2-F933-48C7-9AF7-1FD70B81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82509-E6CB-4CBC-8775-0E780E62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3DD2-D163-4486-8033-C5A27D67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5405-346E-4E1B-9B94-2A53356E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A165-0698-417E-9E00-1E67A61D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CC5E-01BE-43CF-8971-A6E6AFB13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11A8-C54C-46F2-B86E-EF5FE31ED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FA567-50B8-4291-B480-E5014CC5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3FCF6-71D6-4631-BFA6-2B2B07F0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8BA2F-B5B8-4433-A26E-7EEB1590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DA6F9-6960-474C-8597-BD8BDAD7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44337-38C4-4701-A14E-9768565B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FB6AD-E28F-4D94-966D-1CDEE1E8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C223F-4505-43B7-9E10-405D06B3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DBEF63-9889-4851-A9EB-EFBCA2AC5D8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3AA46D-6FBA-46E4-9188-B9AD66412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D5344A-B628-4141-888C-4AB37D25F10F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955A2B-B376-4B52-8E24-F561C570EC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Tidal Energy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nny Gerr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aila Dough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ke Yos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ANd9GcQJafkpREusGfkbuDi77ywzeGEeiZo8g9Dj-fk_V_gwraFllP_DXA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is tidal energy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dal energy works by the tide rushing through holes in a dam, called a barrage that have a turbine inside them that spins to power a generator producing electricity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dvantag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newable resour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esn’t pollu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fter it’s built, the energy is fre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 fuel is need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eap to mainta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des are predict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6" descr="ANd9GcS_Y8rGccn3IQ-Yyye0K9WNfLN8NWhYwmARdIpxGmkO5cqI9cB-1A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sadvantag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rrages are expensive to buil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fects the wildlife-fish can’t migrat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ly provides power for 10 hours during tidal activ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is an “eye sore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8" descr="ANd9GcRu5-w-auFErzn_C9GGors6hqUE6OC_Y0sUUJJhIEimx67zlmBgNg"/>
          <p:cNvPicPr/>
          <p:nvPr/>
        </p:nvPicPr>
        <p:blipFill>
          <a:blip r:embed="rId1"/>
          <a:stretch/>
        </p:blipFill>
        <p:spPr>
          <a:xfrm>
            <a:off x="4495680" y="3962520"/>
            <a:ext cx="396252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causes the tide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moon is the primary cause of the ti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greater gravitational put on the ocean causes it to swell and be dragged along with movement of the moon and sun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5" descr="ANd9GcTTJHyGaK6c1nm2MLw70nQmsdH_glmXZoLjFroS5jOYbYLuT-IF"/>
          <p:cNvPicPr/>
          <p:nvPr/>
        </p:nvPicPr>
        <p:blipFill>
          <a:blip r:embed="rId1"/>
          <a:stretch/>
        </p:blipFill>
        <p:spPr>
          <a:xfrm>
            <a:off x="3641760" y="3809880"/>
            <a:ext cx="5045040" cy="28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ANd9GcSrVmx0GT4XhedGbbS7iAn2XUYV-B-PVBQPIbCLoiKNcb4fNmG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re Inform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bay of Fundy moves 100 billion tons of seawater every tidal movement making it a perfect spot for the use of tidal energy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dal energy is being used in places around the world in France, Russia, Hawaii. http:/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www.youtube.com/watch?v=tSBACzRE3Gw&amp;playnext=1&amp;list=PLB041B96A21D4084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6:51:54Z</dcterms:created>
  <dc:creator>PA Department of Education Classrooms for the Future</dc:creator>
  <dc:description/>
  <dc:language>en-US</dc:language>
  <cp:lastModifiedBy>PA Department of Education Classrooms for the Future</cp:lastModifiedBy>
  <dcterms:modified xsi:type="dcterms:W3CDTF">2011-04-07T17:29:41Z</dcterms:modified>
  <cp:revision>4</cp:revision>
  <dc:subject/>
  <dc:title>What is tidal energy?</dc:title>
</cp:coreProperties>
</file>